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6801-9719-4B4B-90A8-DE3C0DA5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86CD-A804-41F2-967A-C4649BC3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4C04-F8CF-49A7-BC59-6984D9D3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F57F-6AD0-4862-9E04-F2D7E060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59CD-161D-4ADB-B16E-349F2330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082E-2AE8-44D4-AFFE-63EAF563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6DD7-A0CD-479B-8C27-C3DF3FCC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3320-A2D6-4D60-B421-64449A7C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DE2C-08E7-41F7-9365-05B2CA6F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ABAC-5D02-4103-849B-CEFF2549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D4E1-BBE8-4AAB-AD96-FA33A112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6B9C-5055-4807-A2B4-2EF53897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E9A1-89DB-4A16-AF33-48B177D28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acebook.com/photo.php?pid=30340895&amp;id=1271131885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iley Goodwi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 graduate June,9,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676520"/>
            <a:ext cx="3621240" cy="3638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09560" y="1198440"/>
            <a:ext cx="5923080" cy="4459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486400" cy="3657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1523880" y="8380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lash Pho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184800" cy="4113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1295280" y="53352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495960" cy="5257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by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76236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47941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486400" cy="3657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ater Dr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17640" y="1592280"/>
            <a:ext cx="5506920" cy="3673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492880" cy="3662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1143000" y="68580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inting With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346720" cy="3555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914400" y="53352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497560" cy="3664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676520" y="30492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ction S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49360" y="431640"/>
            <a:ext cx="4443480" cy="5992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41760" y="682560"/>
            <a:ext cx="3660480" cy="5492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43200" y="1066680"/>
            <a:ext cx="3664080" cy="5496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1295280" y="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8:56:43Z</dcterms:created>
  <dc:creator>bal_crgoodwin001</dc:creator>
  <dc:description/>
  <dc:language>en-US</dc:language>
  <cp:lastModifiedBy>C</cp:lastModifiedBy>
  <dcterms:modified xsi:type="dcterms:W3CDTF">2009-05-22T21:51:30Z</dcterms:modified>
  <cp:revision>6</cp:revision>
  <dc:subject/>
  <dc:title>Riley Goodwin </dc:title>
</cp:coreProperties>
</file>